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788-140F-437D-B61F-190CEB54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632-B539-41FC-A421-4C9E620D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B0D-8506-4556-95A4-FD157AE5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4D6-BE72-44E0-8FD6-2D5E96C8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80C3-2BED-45B5-9615-8301B10C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45A1-BEFC-4982-AEF0-666A5110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D2A1-6FF7-4DD5-95E9-20F8B3F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4B42-DB8A-4854-8918-D193E17E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20B5-6B37-46CF-A507-C6A2E3D1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AA68-0CE7-45FF-BBC1-D61C975E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450B-A3CE-49DC-A2FE-3EC51D8C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A32-D2FF-4509-9246-802E9A48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0D3C-2261-4DCE-A005-4E1FB270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BE27-494F-400D-B395-6AA4E6C3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978C-5BF6-4C2F-9D95-2AC40D59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2C4E-BA3D-44E2-9FE5-6DDB5F74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7F74-0705-47D4-AF97-48EB0C2C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C9F-7162-4160-A44D-D8EE9F0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80C-ADBF-4F9B-864E-F0A807AE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6EE-D227-463B-8B89-9D36B3CA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1E7-3D20-442B-A549-A30FC60F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7AA-CC06-40BA-ABE6-D6BA76B4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08C-FF2C-41F1-B482-3A9E070A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C56-3681-41DA-AB57-7157738A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245-C282-43F3-964D-EF0AD38E41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B920-2C5D-4094-9568-FA89BF794E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LOS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entro de Salud Comunitaria San Andr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rora Estela Lóp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rco Juan Galin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¿Qué es una infecció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infecciones son invasiones de microbios en el cuer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microbios siempre están presentes, pero solamente causan enfermedades cuando se reproducen en gran cantidad y sin control dentro de nuestro cuer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¿Qué es un microbio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 criaturas muy pequeñas que no se pueden observar a simple v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necesita un microscopio para verl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637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Aspecto de los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icrobios tienen muy diferentes aspec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ay esféricos, alargados y en formas irregul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odos son muy pequeños y no se pueden ver a simple vi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incipales tipos de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cter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ng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32000" y="24955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1865160"/>
            <a:ext cx="4969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Hong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1779480"/>
            <a:ext cx="4969080" cy="44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1928880"/>
            <a:ext cx="763884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3:13:32Z</dcterms:created>
  <dc:creator>rocio</dc:creator>
  <dc:description/>
  <dc:language>en-US</dc:language>
  <cp:lastModifiedBy>INEA</cp:lastModifiedBy>
  <dcterms:modified xsi:type="dcterms:W3CDTF">2008-09-05T16:21:42Z</dcterms:modified>
  <cp:revision>11</cp:revision>
  <dc:subject/>
  <dc:title>LAS INFECCIONES</dc:title>
</cp:coreProperties>
</file>